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EDB-B0DC-4BFE-99B1-2A1F68F2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C2F-8C26-4B8E-B5A6-F8B5CAC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A7A-D267-4EB1-B3BC-C3D8659B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594-BFA4-4EC1-820B-918AEFC0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128-8D5C-495D-8A96-E825B243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CD6-535A-4748-A65A-6CFA4A5C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541-2D07-4641-B0C8-CF172AA6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09F-0179-4195-9D33-05386FE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254-4550-4C3E-9C59-FC4FE10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531-1E44-47B3-9502-D1457B1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951-45CA-414A-94CF-79DF058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7CC-0697-408D-9326-14ADE92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1C3-63F3-4699-A084-AD9A317A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73152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6553080"/>
            <a:ext cx="7621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124160"/>
            <a:ext cx="966960" cy="2962440"/>
          </a:xfrm>
          <a:custGeom>
            <a:avLst/>
            <a:gdLst/>
            <a:ahLst/>
            <a:rect l="l" t="t" r="r" b="b"/>
            <a:pathLst>
              <a:path w="609" h="1866">
                <a:moveTo>
                  <a:pt x="0" y="1866"/>
                </a:moveTo>
                <a:lnTo>
                  <a:pt x="60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676680"/>
            <a:ext cx="125280" cy="438120"/>
          </a:xfrm>
          <a:custGeom>
            <a:avLst/>
            <a:gdLst/>
            <a:ahLst/>
            <a:rect l="l" t="t" r="r" b="b"/>
            <a:pathLst>
              <a:path w="79" h="276">
                <a:moveTo>
                  <a:pt x="0" y="276"/>
                </a:moveTo>
                <a:lnTo>
                  <a:pt x="79" y="0"/>
                </a:lnTo>
              </a:path>
            </a:pathLst>
          </a:custGeom>
          <a:noFill/>
          <a:ln w="66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7315200"/>
            <a:ext cx="4647960" cy="642600"/>
          </a:xfrm>
          <a:prstGeom prst="rect">
            <a:avLst/>
          </a:prstGeom>
          <a:solidFill>
            <a:srgbClr val="ffff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 Line Depicts Route In Class E Airspace To/From R-2515 with A Chas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5124600"/>
            <a:ext cx="12600" cy="1212840"/>
          </a:xfrm>
          <a:custGeom>
            <a:avLst/>
            <a:gdLst/>
            <a:ahLst/>
            <a:rect l="l" t="t" r="r" b="b"/>
            <a:pathLst>
              <a:path w="8" h="764">
                <a:moveTo>
                  <a:pt x="8" y="76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8120" y="2362320"/>
            <a:ext cx="2719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-2508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5:16:40Z</dcterms:created>
  <dc:creator>HP Authorized Customer</dc:creator>
  <dc:description/>
  <dc:language>en-US</dc:language>
  <cp:lastModifiedBy>MillerTL</cp:lastModifiedBy>
  <dcterms:modified xsi:type="dcterms:W3CDTF">2008-04-24T15:20:00Z</dcterms:modified>
  <cp:revision>7</cp:revision>
  <dc:subject/>
  <dc:title>Slide 1</dc:title>
</cp:coreProperties>
</file>